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09D-7803-4484-9DC2-D68DEA89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CDA-0615-454D-A549-BA73F46B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EA6-864B-4BAA-9A42-2A7D0BA1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C72-84E1-45C4-948B-5D321EC4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1C7-36C0-42FE-9E61-B4A21CB2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42B-8758-40AB-AA49-3CECEC00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870-BEA9-489B-A8DB-ED2AA0D6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45B-496A-42E5-9C8D-000ECD6C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423-C59A-43FD-B5AC-9C56D91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DA1-301F-4806-BD5C-2DDDE80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411-DFE0-41A7-AE8A-95DA05C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1CA-B576-41E1-9F89-49ECF78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7B46-B266-4DEA-ADAD-C43565414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utin.viperson.ru/data/200812/putin.v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нешняя политика РФ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ая Концепци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221472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содержание и особенности этапов формирования внешнеполитической доктр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причины принятия нов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арактеризовать принципы и установки современн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уважения к сво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ая редакция Концепции внешней политики РФ утверждена в июне 2000 года Президентом РФ В.В.Пут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putin.viperson.ru/data/200812/putin.v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428840"/>
            <a:ext cx="46432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шнеполитические полномоч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РФ в международных отнош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основные направления внешне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 руководство внешней политикой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т переговоры и подписывает международные договоры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онституция РФ, статья 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я\Мои документы\КенджаеваЛП\Открытый урок 2012\konstitucia0007.jpg"/>
          <p:cNvPicPr/>
          <p:nvPr/>
        </p:nvPicPr>
        <p:blipFill>
          <a:blip r:embed="rId1"/>
          <a:stretch/>
        </p:blipFill>
        <p:spPr>
          <a:xfrm>
            <a:off x="4929120" y="164304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ллельно существуют две сферы внешнеполитических интересов Ро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99840"/>
            <a:ext cx="285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ША и ведущие страны Запа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иж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раны С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я\Мои документы\КенджаеваЛП\Открытый урок 2012\World-pol.jpg"/>
          <p:cNvPicPr/>
          <p:nvPr/>
        </p:nvPicPr>
        <p:blipFill>
          <a:blip r:embed="rId1"/>
          <a:stretch/>
        </p:blipFill>
        <p:spPr>
          <a:xfrm>
            <a:off x="3000240" y="1571760"/>
            <a:ext cx="61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нее зарубежье и страны С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а России по отношению к странам дальнего зарубежья определялась несколькими факто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яжелым социально-политическим положением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ем построить модель демократического общества по американскому и западноевропейскому образц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правительства США и крупнейших европейских стран оказать поддержку демократическому правитель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этапе – стремление восстановить утраченные после радикальных демократических преобразований и распада СССР внешнеполитические позиции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м направлением сотрудничества России со странами СНГ стало заключение двусторонних согла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екст учебника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§ 7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лните таблицу: «Основные направления внешней политики России в современных условия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2071800"/>
          <a:ext cx="8086680" cy="4214880"/>
        </p:xfrm>
        <a:graphic>
          <a:graphicData uri="http://schemas.openxmlformats.org/drawingml/2006/table">
            <a:tbl>
              <a:tblPr/>
              <a:tblGrid>
                <a:gridCol w="2695680"/>
                <a:gridCol w="2695320"/>
                <a:gridCol w="26956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 внешнеполити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рет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Концеп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понятие, соображения, вывод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Доктрин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научная или философская теория, система, руководящий теоретический или политический принци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стиндустриальное обществ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согласно взглядам многих социологов и историков – новая стадия общественного развития, где ведущую роль приобретают сфера услуг, наука и образование, корпорации уступают главное место университетам, а бизнесмены – ученым и специалис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еополитическое положение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особенности пространственно-географического положения государства (или блока государств) в его воздействии на локальные и глобальные международные процес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сближение государств, имеющих общие цели и принципы экономической, социальной политики, политические идеалы, на основе углубления разделения труда, формирования единых простран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обальные проблемы соврем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600200"/>
            <a:ext cx="3929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роза новой миров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логический кризи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азрыв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графическая ситуация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здравоохра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й терро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 организованной преступ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изм и нарком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я\Мои документы\КенджаеваЛП\Открытый урок 2012\глобус2.jpg"/>
          <p:cNvPicPr/>
          <p:nvPr/>
        </p:nvPicPr>
        <p:blipFill>
          <a:blip r:embed="rId1"/>
          <a:stretch/>
        </p:blipFill>
        <p:spPr>
          <a:xfrm>
            <a:off x="4357800" y="1643040"/>
            <a:ext cx="4572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я\Мои документы\КенджаеваЛП\Открытый урок 2012\карта росс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формирования внешнеполитической доктр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«прозападного» крена: декабрь 1991 – середина 1990-х. Задача: установление «союзнических» отношений с Запа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чет национальных интересов: середина 1990-х – июнь 2000. Задача: корректировка стратегического курса страны на мировой арене, последовательная защита национальных интере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циональные интересы России в их внешнеполитическом прелом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еспечение надежной безопас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 для устойчивого экономического ро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ышение жизненного уровня насе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единства и целост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основ конституционного поря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олидация общ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а прав граждан и соотечественников за рубеж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балансирова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ешне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ять в равной мере сотрудничество со странами Запада и Востока, Севера и 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ивать последовательно национальные интере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 дальнейшую интеграцию России в сообщество демократических государств, международные экономические, политические и гуманитарные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Биполярная» модель международных отношений в период «холодной»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еждународных отношений в годы «холодной» войны определялось отношениями между сверхдержавами. Их соперничество носило военно-политический характер. Это предопределяло цикличность послевоенной мировой политики. «Холодная» война была чередой обострений и смягчения международ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февраля 1992 года состоялось подписание Декларации об окончании «холодной»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овые принципы и установк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цепции внешней политик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многополярной системы международных отнош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 международной безопасности – взаимный учет национальных интересов: центральное место в его реализации принадлежи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представительным и авторитетным международным органом являются ООН и ее специализированные учреждения: Генеральная Ассамблея ООН, Совет Безопасности ООН, Экономический и социальный Сове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Documents and Settings\я\Мои документы\КенджаеваЛП\Открытый урок 2012\250px-The_United_Nations_Building.jpg"/>
          <p:cNvPicPr/>
          <p:nvPr/>
        </p:nvPicPr>
        <p:blipFill>
          <a:blip r:embed="rId1"/>
          <a:stretch/>
        </p:blipFill>
        <p:spPr>
          <a:xfrm>
            <a:off x="4643280" y="164304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47:18Z</dcterms:created>
  <dc:creator>я</dc:creator>
  <dc:description/>
  <dc:language>en-US</dc:language>
  <cp:lastModifiedBy>Lenovo</cp:lastModifiedBy>
  <dcterms:modified xsi:type="dcterms:W3CDTF">2016-04-24T20:51:50Z</dcterms:modified>
  <cp:revision>78</cp:revision>
  <dc:subject/>
  <dc:title>Слайд 1</dc:title>
</cp:coreProperties>
</file>